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4.jpeg" ContentType="image/jpeg"/>
  <Override PartName="/ppt/media/image2.png" ContentType="image/png"/>
  <Override PartName="/ppt/media/image8.gif" ContentType="image/gif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2.gif" ContentType="image/gif"/>
  <Override PartName="/ppt/media/image30.jpeg" ContentType="image/jpeg"/>
  <Override PartName="/ppt/media/image9.gif" ContentType="image/gif"/>
  <Override PartName="/ppt/media/image10.png" ContentType="image/png"/>
  <Override PartName="/ppt/media/image27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4.gif" ContentType="image/gif"/>
  <Override PartName="/ppt/media/image17.png" ContentType="image/png"/>
  <Override PartName="/ppt/media/image20.png" ContentType="image/png"/>
  <Override PartName="/ppt/media/image28.jpeg" ContentType="image/jpeg"/>
  <Override PartName="/ppt/media/image26.gif" ContentType="image/gif"/>
  <Override PartName="/ppt/media/image1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18.png" ContentType="image/pn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6F7-28E6-48E8-A05B-588FBDEF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4A4-56BD-415F-91F7-EF2773F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07A-6C8C-4FED-B86B-635E83FB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DB5-B73A-4E4E-8A20-5483B133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3390-5282-4829-8539-BC372873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EC53-5793-4DEE-A73E-613410F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4546-8E64-44CC-B3EB-2635285D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EC2-5243-4836-8634-D373C782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82F9-4055-43D2-B9DB-F2188DE5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BC57-90B3-4E5A-98A5-6D69206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68A1-3712-497A-96AC-C549547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71D-22DD-4BC9-9AB2-537F849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190F-CB15-48D0-8375-D6C42101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435-4012-4B13-A6AD-A7C852F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32A7-5C85-48C5-9991-DC49FF0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F8DC-4A36-4336-9389-4E2BDBED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8E28-D6AF-4872-9A18-0E0864C6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211-59FF-4EF4-8FF7-8071F08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146-BA6F-4321-8228-FDCF818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C18-E36D-470D-9FA0-7C7F8CE1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7E3-2D86-4AC7-B1B0-1C4519E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C39-F55F-42F5-9BAD-EF78FDB3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354-7025-46CA-9527-C4332B3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92A-96C5-4EA9-8BAA-7F42C803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91A4-2067-49B6-9B7D-ADECDFE686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F0C-5818-4F84-B349-44A04D591FF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hysical Scienc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Newton’s Law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nd Forc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inertia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are floating around in space outside the space shuttle, and go up to it and give it a kick, what will be the result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5053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pace shuttle will go flying off, of course, since it has no weigh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) You will go flying off in the opposite direction with a hurt foot, of course, since the space shuttle has the same amount of mass (and inertia) in space as it does here on earth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VOLUM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amount of space something takes 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DENSIT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amount of mass per unit of volume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D = m / V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0773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HAS MORE VOLUME:  A kilogram of lead, or a kilogram of bre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BREAD TAKES UP MORE SPACE, OF COURSE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HAS A HIGHER DENSITY: A kilogram of lead, or a kilogram of bre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LEAD DOES—IT IS MORE COMPACT—it has more matter packed into a smaller space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forc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push or a pull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NE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orce is the leftover  (or unbalanced) amount of force after you add up all the forces acting in a certain direction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ACCELERATION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 CHANGE in motion!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at is ANY change in SPEED AND/OR DIRECTION!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Only NET forces cause accelera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o net forc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means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O CHANGE in speed or direction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IGGER the amount of the forc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IGGER the acceleration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IGGER the mas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LESS the acceleration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fancy terms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he acceleration of a body is directly proportional to the net force on it, and inversely proportional to the mas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77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CE UN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nk of Newton’s 2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nd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law:               F = m  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 = kg m/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ince mass is in kg, and a is in m/s/s, or m/s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, F or Forces are measured in 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kg m/s</a:t>
            </a:r>
            <a:r>
              <a:rPr b="1" lang="en-US" sz="3600" spc="-1" strike="noStrike" u="sng" baseline="30000">
                <a:solidFill>
                  <a:srgbClr val="eaeaea"/>
                </a:solidFill>
                <a:uFillTx/>
                <a:latin typeface="Verdana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That is the SAME as a Newton, or N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19800" y="380880"/>
            <a:ext cx="37242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914400"/>
            <a:ext cx="57913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F = 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100N = 100kg X 1.00m/s</a:t>
            </a:r>
            <a:r>
              <a:rPr b="1" lang="en-US" sz="28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 = F/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1.00m/s</a:t>
            </a:r>
            <a:r>
              <a:rPr b="1" lang="en-US" sz="28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= 100N / 100k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791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makes sense…the more massive something is, the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hard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t is to accelerate.  And the more force there is, the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easi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omething will accelera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Zero net force means zero accelera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GALILEO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he experimented to ge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VIDENC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or his conclusions,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is considered to be th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father of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experimental physic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19680" y="1523880"/>
            <a:ext cx="3970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 = 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2 kg mass accelerating at 3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as how much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et force on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2 kg mass accelerating at 3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as how much net force on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F = ma = 2kg X 3 m/s</a:t>
            </a:r>
            <a:r>
              <a:rPr b="0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= 6 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 = ma          W = m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weigh 150 pounds, your mass is about 68 kg.  (1 kg = 2.2 lbs.)  What is your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EIGHT in Newt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ere on Ear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1244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weigh 150 pounds, your mass is about 68 kg.  (1 kg = 2.2 lbs.)  What is your WEIGHT in Newtons here on Ear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W = mg = 68kg X 10m/s</a:t>
            </a:r>
            <a:r>
              <a:rPr b="0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= 680 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F = m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 = ma         a = F/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force of 16 N is pulling on a 2 kg wagon.  If there is no friction, how fast is the wagon accelerating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force of 16 N is pulling on a 2 kg wagon.  If there is no friction, how fast is the wagon accelerating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a = F/m = 16N / 2kg = 8 m/s</a:t>
            </a:r>
            <a:r>
              <a:rPr b="0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 = ma         a = F/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the wagon above is going at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NSTANT VELOCIT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with the 16N pull,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how much fric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OLU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the wagon above is going at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NSTANT VELOCIT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with the 16N pull,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how much fric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16 N !  If going constant velocity, acceleration is 0, &amp; net force is 0 so all forces are BALANCED (equal)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 any 1 direc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Every action has an equal and opposite reac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re are NO single forces. They are always an action/reaction pair.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130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799320" y="2362320"/>
            <a:ext cx="2344680" cy="2666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4881600"/>
            <a:ext cx="66294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r example, you touch the table with 1N of Force, it touches you back with 1N of Force SIMULTANEOUSLY (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no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a little later!)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4572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4024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52880" y="4267080"/>
            <a:ext cx="2514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He also figur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out tha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80" y="762120"/>
            <a:ext cx="3881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ton’s 3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Law says that an action reaction pair would be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ands pushing on barbell, barbell pushing on hand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n HOW can the barbell b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ACCELERATED upwar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OTH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ction reaction pairs are involve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29718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on Newton’s 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f you smash the wall with your fist with 80 N of force, the wall will hit you right back with 80 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ut what if you hold a piece of paper in the air and try to hit it with 80 N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f the paper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annot support or hit you back with 80 N, can YOU really hit IT with 80 N?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f the paper can only hit you back with 5 N, what happens to the other 75 N from your punch??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5880" y="4691160"/>
            <a:ext cx="3048120" cy="216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61480" y="48006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do they accelerat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1376280"/>
            <a:ext cx="7391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9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Force of fric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Opposes mo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Occurs between surfaces in contac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410080" y="10857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91320" y="4673520"/>
            <a:ext cx="33526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86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vitational force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s the WEAKEST of all the forces, but acts over the GREATEST distances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5105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You are pulling and pulled by EVERY ATOM IN THE UNIVERSE!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omagnetic forces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9680" y="28951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e the forces that act due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lectron configuration in ato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forces are responsible for the PROPERTIES or characteristics of elements, compounds, and materi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4343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s force makes paint stick to a wall, makes diamonds extremely hard, makes gold malleable, rubber stretchy, water a bipolar molecule, etc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43480" y="0"/>
            <a:ext cx="4700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3556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3551400"/>
            <a:ext cx="4724280" cy="3306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715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ngs in motion tend to STAY IN MOTION; they do NOT tend to SLOW DOWN OR STOP ON THEIR 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fact, Galileo figured out that it TAKES a force to make something slow down or stop.  The usual force is (he discovered):  FRIC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00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o in fact, GALILEO figured out the principle behind what we call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Verdana"/>
              </a:rPr>
              <a:t>Newton’s 1</a:t>
            </a:r>
            <a:r>
              <a:rPr b="1" i="1" lang="en-US" sz="44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1" i="1" lang="en-US" sz="4400" spc="-1" strike="noStrike">
                <a:solidFill>
                  <a:srgbClr val="eaeaea"/>
                </a:solidFill>
                <a:latin typeface="Verdana"/>
              </a:rPr>
              <a:t> Law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086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object at rest tends to stay at rest, and an object in motion tends to stay in motion in a straight line at constant velocity unless acted on by an outside net for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INERTIA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refers to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Newton’s 1</a:t>
            </a:r>
            <a:r>
              <a:rPr b="0" lang="en-US" sz="4000" spc="-1" strike="noStrike" u="sng" baseline="30000">
                <a:solidFill>
                  <a:srgbClr val="ffffcc"/>
                </a:solidFill>
                <a:uFillTx/>
                <a:latin typeface="Arial"/>
              </a:rPr>
              <a:t>st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 La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ertia is the TENDENCY of ANY MASS to KEEP DOING what it is ALREADY DOING (resting, or going in a straight line at a constant speed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A FORCE is a push or a pull, and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ERTIA IS 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NOT A FORC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!!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A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TENDENCEY OR CHARACTERISTI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ERTIA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ertia is a measure of an object’s 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RESISTANC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 CHANG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in state of motion.  (Things—like people—don’t want to change!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word inertia comes from the Italian word for 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lazines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ertia is DIRECTLY PROPORTIONAL TO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MASS ONL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  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(More mass means more inertia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Inertia has nothing to do with size, speed, or anything els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the difference between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mass and weigh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EIGH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 pull due to grav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ight CHANGES due to location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ight is a FORCE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752480"/>
            <a:ext cx="449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AS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 amount of MATTER in an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ss does NOT change, regardless of loc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ss is measured in k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9:36:55Z</dcterms:created>
  <dc:creator>Ria Evans</dc:creator>
  <dc:description/>
  <dc:language>en-US</dc:language>
  <cp:lastModifiedBy>VEvans</cp:lastModifiedBy>
  <dcterms:modified xsi:type="dcterms:W3CDTF">2010-04-30T18:40:33Z</dcterms:modified>
  <cp:revision>82</cp:revision>
  <dc:subject/>
  <dc:title>Slide 1</dc:title>
</cp:coreProperties>
</file>